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701588" cy="952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328-812E-4F28-835F-6DFDF001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1143000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5040" y="5506200"/>
            <a:ext cx="1143000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E14-DFC6-406C-8B6C-1C48CC85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188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5040" y="550620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91880" y="550620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FC4-8E12-4AB1-B2BD-11110408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99640" y="222264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64240" y="222264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5040" y="550620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99640" y="550620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64240" y="5506200"/>
            <a:ext cx="36802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7A7-6F5F-4CB6-A02D-C678575B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5040" y="2222640"/>
            <a:ext cx="1143000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3F3-6783-4D93-A9F3-530EDBAA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11430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B89-4464-4B54-BEE1-F1A7E773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557748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91880" y="2222640"/>
            <a:ext cx="557748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5D0-BD37-4F6A-9F0C-B5748F02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D23-2687-441F-A133-4D806684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5040" y="380880"/>
            <a:ext cx="11430000" cy="73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52E-8F6A-40D6-A3DF-0F8941C7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91880" y="2222640"/>
            <a:ext cx="557748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5040" y="550620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854-4770-4ADE-A8E5-C5EF6A6C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557748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9188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1880" y="550620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DAF-8C09-4CC6-9637-523E94B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504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1880" y="2222640"/>
            <a:ext cx="557748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5040" y="5506200"/>
            <a:ext cx="1143000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D5A-11D1-4277-80DF-D42AA423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4300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5040" y="2222640"/>
            <a:ext cx="11430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4680" y="8827920"/>
            <a:ext cx="2963880" cy="5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38720" y="8827920"/>
            <a:ext cx="4022640" cy="5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00800" y="8827920"/>
            <a:ext cx="2963880" cy="5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1A37-F3AB-4D76-B9F6-82A13FEE2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70008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03:03:51Z</dcterms:created>
  <dc:creator>Daddio</dc:creator>
  <dc:description/>
  <dc:language>en-US</dc:language>
  <cp:lastModifiedBy>Daddio</cp:lastModifiedBy>
  <dcterms:modified xsi:type="dcterms:W3CDTF">2012-12-10T03:10:21Z</dcterms:modified>
  <cp:revision>2</cp:revision>
  <dc:subject/>
  <dc:title>PowerPoint Presentation</dc:title>
</cp:coreProperties>
</file>